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E0A-BE0E-49A9-92A9-FAA2DA88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7D8-802B-4077-AA13-76CA5B5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B7C-A454-47DA-8480-FDF71580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87E-06D7-4EEC-8291-269CC39D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BF0-F173-4C54-88BB-2FAA348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0EE-27B5-43CE-8A78-920BD6F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801-209B-41F4-86D0-4FE6489C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312-6BD2-40A1-80ED-7506918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19B-C9A3-461F-8F82-9438009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E6A-F356-4C35-B7A3-A3CD065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B7E-13AA-4B59-80FF-833D30C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52E-1B9C-46F4-BF8D-7019371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BDA-04CF-4789-B12E-6F7037B19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oss-Section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6947"/>
          <a:stretch/>
        </p:blipFill>
        <p:spPr>
          <a:xfrm>
            <a:off x="990720" y="457200"/>
            <a:ext cx="7162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858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533520" y="6858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035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76212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91440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1265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943600"/>
            <a:ext cx="1676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67155" r="0" b="22055"/>
          <a:stretch/>
        </p:blipFill>
        <p:spPr>
          <a:xfrm>
            <a:off x="762120" y="33526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756" r="0" b="11265"/>
          <a:stretch/>
        </p:blipFill>
        <p:spPr>
          <a:xfrm>
            <a:off x="762120" y="3886200"/>
            <a:ext cx="7467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4419720"/>
            <a:ext cx="1752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733920"/>
            <a:ext cx="3352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9528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2329"/>
          <a:stretch/>
        </p:blipFill>
        <p:spPr>
          <a:xfrm>
            <a:off x="990720" y="762120"/>
            <a:ext cx="716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85800" y="60948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7130" r="0" b="21918"/>
          <a:stretch/>
        </p:blipFill>
        <p:spPr>
          <a:xfrm>
            <a:off x="685800" y="3809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609480"/>
            <a:ext cx="74674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76718" r="0" b="16435"/>
          <a:stretch/>
        </p:blipFill>
        <p:spPr>
          <a:xfrm>
            <a:off x="762120" y="3200400"/>
            <a:ext cx="74674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914400"/>
            <a:ext cx="746748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82201" r="0" b="12329"/>
          <a:stretch/>
        </p:blipFill>
        <p:spPr>
          <a:xfrm>
            <a:off x="762120" y="3886200"/>
            <a:ext cx="746748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7120" y="419112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46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8914"/>
          <a:stretch/>
        </p:blipFill>
        <p:spPr>
          <a:xfrm>
            <a:off x="838080" y="83808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09480" y="3808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73839" r="0" b="18914"/>
          <a:stretch/>
        </p:blipFill>
        <p:spPr>
          <a:xfrm>
            <a:off x="609480" y="3124080"/>
            <a:ext cx="77724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696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50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23132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1353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2755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787"/>
          <a:stretch/>
        </p:blipFill>
        <p:spPr>
          <a:xfrm>
            <a:off x="8380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499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7:33Z</dcterms:modified>
  <cp:revision>218</cp:revision>
  <dc:subject/>
  <dc:title>Slide 1</dc:title>
</cp:coreProperties>
</file>